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B6FB1-41C3-4E17-9FB2-89D57D5EA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6C0-DA3C-42C0-AEE5-E111F551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C31A-F02D-4BC7-B8BB-20F4BB31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5504-310F-484B-9A7B-E1EF845D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56D0-7A3B-477F-8C8B-E3838577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25C-7403-47CF-AB7C-5F62137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598-32D4-4317-B29C-C5F78173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EDA-6B7E-4031-9A4A-3D01C1B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E446-335D-4E5A-8B19-E51E0AFD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99D-9559-4F60-91A2-1F1DB03F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37A-9916-487E-8785-29CF5657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D37-F55E-4A55-A35E-64E2DAF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6BD-ACF6-4970-9109-E6342668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7360" indent="-21276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9360" indent="-20808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82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6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C5276-4B03-4BCB-A590-A5EA1238D6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answers.com/topic/runes-larsson-gif" TargetMode="External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71680" y="900000"/>
            <a:ext cx="5391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10080720" cy="7740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240000" y="270036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SWEDEN!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8424720" y="6659640"/>
            <a:ext cx="1192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By Mal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Tuesday March 11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95640" y="25092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ff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Sweden's 3 crowns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ff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0360" y="3564000"/>
            <a:ext cx="3005280" cy="309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7280" y="2340000"/>
            <a:ext cx="583236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wedish national symbol is called “Three Crowns” (Swedish: Tre Kronor) and composed by three yellow or gilded crowns ordered two above and one below, placed on a blue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3635280"/>
            <a:ext cx="55530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symbol of the Swedish government and used by Swedish embassies around the world. But it is also used less formal. Example: the Swedish national ice hockey team, who wear the symbol on their shirts and hence are called "Three Crowns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56360" y="684360"/>
            <a:ext cx="2590920" cy="256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52360" y="5364000"/>
            <a:ext cx="2146320" cy="14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08000" y="2627280"/>
            <a:ext cx="2521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53080" y="1662120"/>
            <a:ext cx="63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53080" y="1662120"/>
            <a:ext cx="63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49640" y="1857240"/>
            <a:ext cx="3838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89080" y="-30240"/>
            <a:ext cx="10080720" cy="7589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440080" y="324000"/>
            <a:ext cx="26766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WEDIS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75360" y="324000"/>
            <a:ext cx="20286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E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335720" y="324000"/>
            <a:ext cx="1526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3676680" y="1370160"/>
            <a:ext cx="4825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lma Lagerlöf, a Nobel-prize (1909) winner wri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 the back a motive From one of her book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ils Holgerson” on the back of the goose Ak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11280" y="1187280"/>
            <a:ext cx="1727280" cy="957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664720" y="2965680"/>
            <a:ext cx="55558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Jenny Lind, 1820–87, also called “the swedish nightingale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worldfamous soprano sing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87280" y="1403280"/>
            <a:ext cx="1727280" cy="961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31640" y="2484360"/>
            <a:ext cx="1872000" cy="10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31640" y="3708360"/>
            <a:ext cx="187200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31640" y="4843440"/>
            <a:ext cx="1872000" cy="1096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64000" y="4992840"/>
            <a:ext cx="46418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ing Carl XI, 1655–97, swedish king 1660–9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431640" y="6012000"/>
            <a:ext cx="1872000" cy="1068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92360" y="5680080"/>
            <a:ext cx="547380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King Gustav Vasa (1496-1560) founded the Swedish hereditary monarchy and united the loosely connected Sweden of the 1400-hundreds i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state with a central govern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2360" y="3735360"/>
            <a:ext cx="583236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rl von Linné (1707-1778) created “System Nature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system for the classification of plants and anim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to different species and families that still is the ba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r natural sciences resear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311640" y="6516720"/>
            <a:ext cx="33112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called Kron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55640" y="5508720"/>
            <a:ext cx="5113440" cy="1652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143840" y="971640"/>
            <a:ext cx="2936880" cy="272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527280" y="611280"/>
            <a:ext cx="30481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OCHOLM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2160720" y="1811160"/>
            <a:ext cx="33112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apital Stockholm is a city full of water. Located on several islands and by a spectacular archipelago. You can fish and swim in clean water right in the middle of the 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6000" y="1116000"/>
            <a:ext cx="1944720" cy="172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75000" y="4761720"/>
            <a:ext cx="18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272360" y="4643280"/>
            <a:ext cx="2519280" cy="2178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4360" y="5364000"/>
            <a:ext cx="17290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 King’s cas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00360" y="5580000"/>
            <a:ext cx="576000" cy="287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60720" y="3851280"/>
            <a:ext cx="455616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 Sweden there is 9 million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32000" y="4572000"/>
            <a:ext cx="4556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In the capital Stockholm there is 1,5  million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95640" y="179280"/>
            <a:ext cx="3867120" cy="4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87640" y="900000"/>
            <a:ext cx="1743120" cy="50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38720" y="3657960"/>
            <a:ext cx="32058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eans Merry Christmas in Swed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38720" y="3657960"/>
            <a:ext cx="32058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eans Merry Christmas in Swed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38720" y="3657960"/>
            <a:ext cx="32058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eans Merry Christmas in Swed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8720" y="3657960"/>
            <a:ext cx="3205800" cy="2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means Merry Christmas in Swed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1576440"/>
            <a:ext cx="583272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hristmas season is a long one in Sweden and these are some of the trad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dvent Cand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On the first Sunday in Advent, the first candle is lit, on the second Sunday two candles are lit ... and so 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l kale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For many years Swedish TV and radio have featured an “advent calendar” with different themes - it becomes a must for most families at around 6 p.m. every evening from December 1 until Christmas 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body gives eachother gifts on Christmas eve 24 December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mt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Father Christmas) visits and asks if there are any good children he can give gifts 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traditional to dance around the Christmas tree singing so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lög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ulled wine) is the main drink of Christ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31640" y="466560"/>
            <a:ext cx="1314720" cy="104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64360" y="5148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056360" y="4932360"/>
            <a:ext cx="1125720" cy="122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75440" y="984240"/>
            <a:ext cx="19195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Merry Christm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 thousand years ago there were Vikings in Sweden. They had a special alphabet - Ru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ive hundred years ago, after many wars, Sweden was a big country. Finland, Baltics, Germany, Poland and parts of Russia and Denmark were in Swedish control and ruled by the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7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532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oday Sweden is a small country and have had peace for 2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61440" y="5651640"/>
            <a:ext cx="2170080" cy="1427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00360" y="5796000"/>
            <a:ext cx="4653000" cy="127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087640" y="539640"/>
            <a:ext cx="48974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story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 Sintorn</cp:lastModifiedBy>
  <cp:revision>0</cp:revision>
  <dc:subject/>
  <dc:title>Slide 1</dc:title>
</cp:coreProperties>
</file>